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EFEC-5920-4E6B-A909-830CD86F2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DBE8-FCD3-4F42-ACAB-D51A6F960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F991-0EE1-4BB2-AB53-E62177C7E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198C-1384-46E8-B429-CEC946AE3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50403-2912-4EB4-B388-D435BB8C1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F8D83-2573-498D-BF0E-8B5E50372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EA253-0BC6-4926-9836-8F7041CDC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33659-7CB7-4B07-852E-E8812C5BD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F9596-C4B0-41A4-8998-9ED61292A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7D8C0-7921-4514-9DA9-B2E786EB6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FA378-C617-411C-8939-C00714DB8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11AA-C008-4C0C-884D-5680981EB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9F803-1CE1-44EE-965B-481097E5B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BE003-4BEA-43E1-91E0-798F985C5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4E004-FE81-4CAA-9EB9-F8AB3F42D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DC780-1831-40DD-AC84-F7F9071D2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B18E8-FF67-4EFF-B821-A80E3F61B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3BD5-A016-4B8A-A1F4-32B79B2D6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557C-5A3E-4217-87AC-A7BB87C72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0E20-FAF6-4AB6-BC56-6F5C2EFBD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7C70-82E0-4552-92AA-9342C70E2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B881-B9DB-48F7-9EC4-33392D20C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68F7-6008-445F-9F75-DE219891D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6B3A-EEFD-4132-8C4A-E340139F5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AD4B4-3966-46E9-A6A2-3C7CCD8867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9112E-FFF9-4529-AFA8-56A1F2877676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anings of growing ol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re of older peo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cial and cultural com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p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cause of age (‘natura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fe exper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sd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wer (blessing / cursing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atefu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GENERAL RECIPROC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ong te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ru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o ‘calculation’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 gift can be totally 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 differ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BALANCED RECIPROCITY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horter te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ess tru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lculation (but often 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 dissembl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 gift more simi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NEGATIVE RECIPROCITY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sh pay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istru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pen calcu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ually mone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re            Reciproc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urity is: inv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: educating childr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: building a ho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: ……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are with The Netherlands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5"/>
          <p:cNvSpPr/>
          <p:nvPr/>
        </p:nvSpPr>
        <p:spPr>
          <a:xfrm flipH="1">
            <a:off x="2743200" y="1371600"/>
            <a:ext cx="13716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Succesful age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Ghana: …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Turkey: ……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33399"/>
                </a:solidFill>
                <a:latin typeface="Tahoma"/>
              </a:rPr>
              <a:t>Care for chronically sick or older peopl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Is not so much a matter of professional c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But takes place mainly at home, by relatives, unless…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Popular sector’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Example: care for older people in Ghana in its social cont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15640" y="549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Why important to study life and care of older people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emographic cha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ncreased depend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Migration of childr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iminishing family c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ntergenerational tens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Lack of state fac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olicy recommend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lder people in Ghana: context 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amily is secur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t-mig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ver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pension allow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institu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lder people in Ghana: context 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mited health c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ually no long periods of fragile health and extreme depend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mentia r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y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5 “older” peo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versations on various topics (e.g. meaning of “old”, respect, loneliness, care, building a house, marriage, sex, deat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icip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ves, frien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ool essay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thropological perspectiv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ic /e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r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ltural relativ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cipant ob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sp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Motiv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Romanticization of old age in Afr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Lessons from Africa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Lack of anthropological interest in ageing (Why??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Own biography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anings of “old”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     Twi      and    Englis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anyi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I have grown (peopl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ye dad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it is old (thing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 am o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o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39:47Z</dcterms:created>
  <dc:creator>BU</dc:creator>
  <dc:description/>
  <dc:language>en-US</dc:language>
  <cp:lastModifiedBy>Owner</cp:lastModifiedBy>
  <dcterms:modified xsi:type="dcterms:W3CDTF">2013-11-18T13:12:29Z</dcterms:modified>
  <cp:revision>9</cp:revision>
  <dc:subject/>
  <dc:title>Meanings of growing old Care of elderly people</dc:title>
</cp:coreProperties>
</file>